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E2C9-90FD-4A53-99A2-68EE9004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4F1-8A3C-4EA9-8155-741EA374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997-3C4C-4455-9C55-909134CE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6B3-4A58-4AC0-89A9-A3BCDDE3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7D09-F541-4A56-8272-1C618106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4A31-0733-4DF8-9793-911638C6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977B-9EEE-45F7-81A7-885FD206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D147-CD37-4BBC-8A66-080956E7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9836-B170-4602-93E7-FA7BF910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23A0-5C2F-4908-9AA6-788D29FA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8F4C-486B-41CE-8DC2-436C405C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4A8-9375-4AB2-A975-AE08FB01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FC92-A7CC-4E70-8814-152B64DB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099E-72B4-4A07-A447-2E87C412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8AA1-8AD7-4A49-A6B0-427E17BC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1449-0616-4DB9-8CAE-5D436759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C12C-7A20-42F8-BC7F-84FE9B10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BF9-0895-45A8-87ED-67D48DE6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B1A-9B35-40E3-8BD9-81A2E852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517E-E1C8-4BFF-BF27-F35A3BF8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04B1-DB8C-4642-8B63-FF39B54C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25B-9928-4FDF-A586-E9AB1755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457-E183-4772-909B-68F6790F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B68-2FC8-4EB5-AEE9-8C351B7C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596A-9340-4F8B-8019-0AA1D72BDA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9DA0-9607-48CD-A52D-A1EE15B5FE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Three-Fifths Compromise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greement that three-fifths of a state's slave population would be counted for representation and tax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2819520"/>
            <a:ext cx="3733920" cy="2819160"/>
          </a:xfrm>
          <a:prstGeom prst="wedgeEllipseCallout">
            <a:avLst>
              <a:gd name="adj1" fmla="val 50722"/>
              <a:gd name="adj2" fmla="val 5500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KEY WORD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~represent:  when a Senator takes ideas that people in his state tell him and he goes and tells the Presi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73000">
            <a:off x="4946400" y="3033720"/>
            <a:ext cx="3962160" cy="2743200"/>
          </a:xfrm>
          <a:prstGeom prst="cloudCallout">
            <a:avLst>
              <a:gd name="adj1" fmla="val -22337"/>
              <a:gd name="adj2" fmla="val 5193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In my own words: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North does not think it is right that the South has more slaves and that creates more representation, so the South should only be able to count 3/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of their slaves for re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00600" y="5826240"/>
            <a:ext cx="1371600" cy="1031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573000">
            <a:off x="4876560" y="3048120"/>
            <a:ext cx="3962160" cy="2743200"/>
          </a:xfrm>
          <a:prstGeom prst="cloudCallout">
            <a:avLst>
              <a:gd name="adj1" fmla="val -23152"/>
              <a:gd name="adj2" fmla="val 5049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your own word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Quorum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inimum number of members that must be present for official business to take pl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581280"/>
            <a:ext cx="3429000" cy="2210040"/>
          </a:xfrm>
          <a:prstGeom prst="wedgeEllipseCallout">
            <a:avLst>
              <a:gd name="adj1" fmla="val 51666"/>
              <a:gd name="adj2" fmla="val 4935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Key Word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Minimum:  the least you can 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opposite of maximum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429000"/>
            <a:ext cx="2971800" cy="3429000"/>
          </a:xfrm>
          <a:prstGeom prst="cloudCallout">
            <a:avLst>
              <a:gd name="adj1" fmla="val -45032"/>
              <a:gd name="adj2" fmla="val 2379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In my own word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he least amount of people that have to be there to have official 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191120" y="5826240"/>
            <a:ext cx="1371600" cy="1031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15000" y="3429000"/>
            <a:ext cx="2971800" cy="3429000"/>
          </a:xfrm>
          <a:prstGeom prst="cloudCallout">
            <a:avLst>
              <a:gd name="adj1" fmla="val -51976"/>
              <a:gd name="adj2" fmla="val 2037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In my own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ajority Rule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ystem in which more than one half of a group holds the power to make decisions binding the entire group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 rot="19777200">
            <a:off x="1142640" y="4038480"/>
            <a:ext cx="3048120" cy="1981440"/>
          </a:xfrm>
          <a:prstGeom prst="wedgeEllipseCallout">
            <a:avLst>
              <a:gd name="adj1" fmla="val 35384"/>
              <a:gd name="adj2" fmla="val 9011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Key Word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inding:  uniting or f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e than half: at least 1 more than ha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769800">
            <a:off x="4433400" y="3533760"/>
            <a:ext cx="4454640" cy="2560680"/>
          </a:xfrm>
          <a:prstGeom prst="cloudCallout">
            <a:avLst>
              <a:gd name="adj1" fmla="val -1972"/>
              <a:gd name="adj2" fmla="val 3163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In my own words: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If like in a classroom and you vote on homework for the night or not~ and at least more than half of the people vote for no homework there will be no homework because it was more than half that wanted it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5826240"/>
            <a:ext cx="1371600" cy="1031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769800">
            <a:off x="4419360" y="3504960"/>
            <a:ext cx="4454280" cy="2560680"/>
          </a:xfrm>
          <a:prstGeom prst="cloudCallout">
            <a:avLst>
              <a:gd name="adj1" fmla="val -10027"/>
              <a:gd name="adj2" fmla="val 3365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In my own word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Reprieve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ays or cancellations of punishme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2895480"/>
            <a:ext cx="2590920" cy="1828800"/>
          </a:xfrm>
          <a:prstGeom prst="wedgeEllipseCallout">
            <a:avLst>
              <a:gd name="adj1" fmla="val 44791"/>
              <a:gd name="adj2" fmla="val 10729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Key word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delay- you go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3124080"/>
            <a:ext cx="3124080" cy="2362320"/>
          </a:xfrm>
          <a:prstGeom prst="cloudCallout">
            <a:avLst>
              <a:gd name="adj1" fmla="val -43750"/>
              <a:gd name="adj2" fmla="val 5450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In my own word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: when a punishment is delayed or given a different or later time than it was supposed to be or if it is cancelled, you don’t get the punishment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09880" y="5562720"/>
            <a:ext cx="1371600" cy="1031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105520" y="3124080"/>
            <a:ext cx="3124080" cy="2362320"/>
          </a:xfrm>
          <a:prstGeom prst="cloudCallout">
            <a:avLst>
              <a:gd name="adj1" fmla="val -43750"/>
              <a:gd name="adj2" fmla="val 5450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In my own word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: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6:39:56Z</dcterms:created>
  <dc:creator>kmst1029</dc:creator>
  <dc:description/>
  <dc:language>en-US</dc:language>
  <cp:lastModifiedBy>workstation</cp:lastModifiedBy>
  <dcterms:modified xsi:type="dcterms:W3CDTF">2011-03-10T16:26:02Z</dcterms:modified>
  <cp:revision>13</cp:revision>
  <dc:subject/>
  <dc:title>Three-Fifths Compromise </dc:title>
</cp:coreProperties>
</file>